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jpeg" ContentType="image/jpe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lnSpc>
                <a:spcPct val="12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AutoShape 1"/>
          <p:cNvSpPr/>
          <p:nvPr/>
        </p:nvSpPr>
        <p:spPr>
          <a:xfrm>
            <a:off x="0" y="0"/>
            <a:ext cx="6797520" cy="98740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4080"/>
              <a:gd name="textAreaBottom" fmla="*/ 9873720 h 9874080"/>
            </a:gdLst>
            <a:ahLst/>
            <a:rect l="textAreaLeft" t="textAreaTop" r="textAreaRight" b="textAreaBottom"/>
            <a:pathLst>
              <a:path w="21600" h="31376">
                <a:moveTo>
                  <a:pt x="5" y="0"/>
                </a:moveTo>
                <a:arcTo wR="5" hR="5" stAng="16200000" swAng="-5400000"/>
                <a:lnTo>
                  <a:pt x="0" y="31371"/>
                </a:lnTo>
                <a:arcTo wR="5" hR="5" stAng="10800000" swAng="-5400000"/>
                <a:lnTo>
                  <a:pt x="21595" y="31376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Text Box 2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Text Box 3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931680" y="740880"/>
            <a:ext cx="4932360" cy="3700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12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79320" y="4691160"/>
            <a:ext cx="5437440" cy="44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0" y="9377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2"/>
          </p:nvPr>
        </p:nvSpPr>
        <p:spPr>
          <a:xfrm>
            <a:off x="3849840" y="9378720"/>
            <a:ext cx="294480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461CDF-DC4A-403F-84CE-9925EDA5CDD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49840" y="9379080"/>
            <a:ext cx="29448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FD10F1-B60B-416C-A86B-00F3BDEFF06C}" type="slidenum"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1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7B7C9E0-6973-4B0F-A605-EA2562B49D26}" type="slidenum">
              <a:rPr b="1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Text Box 2"/>
          <p:cNvSpPr/>
          <p:nvPr/>
        </p:nvSpPr>
        <p:spPr>
          <a:xfrm>
            <a:off x="1133640" y="741240"/>
            <a:ext cx="4530600" cy="370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49840" y="9379080"/>
            <a:ext cx="29448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AF161E-24F9-455A-9197-D304BA112946}" type="slidenum"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1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FA02E70-877A-41D2-98F2-BA37693AA034}" type="slidenum">
              <a:rPr b="1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2"/>
          <p:cNvSpPr/>
          <p:nvPr/>
        </p:nvSpPr>
        <p:spPr>
          <a:xfrm>
            <a:off x="1133640" y="741240"/>
            <a:ext cx="4530600" cy="370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49840" y="9379080"/>
            <a:ext cx="29448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46382C-4728-41FE-A944-8D80B56EDD75}" type="slidenum"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49840" y="9379080"/>
            <a:ext cx="29448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B2DC90-B8DA-4BC8-B0DC-D41933AED3E2}" type="slidenum"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E45A12C-456C-4D51-B3AB-465B4DA5ACDE}" type="slidenum">
              <a:rPr b="1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2"/>
          <p:cNvSpPr/>
          <p:nvPr/>
        </p:nvSpPr>
        <p:spPr>
          <a:xfrm>
            <a:off x="1133640" y="741240"/>
            <a:ext cx="4530600" cy="370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49840" y="9379080"/>
            <a:ext cx="29448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0E7B4E-BBD2-416A-88E6-98A3F26BA696}" type="slidenum"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49840" y="9379080"/>
            <a:ext cx="29448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AAC210-7945-4762-9564-31B4A89BE858}" type="slidenum"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49840" y="9379080"/>
            <a:ext cx="29448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75A95F-3824-4B1C-A420-B6F0071204B5}" type="slidenum"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49840" y="9379080"/>
            <a:ext cx="29448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623B4F-F8D6-4322-A183-10763D52450F}" type="slidenum"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49840" y="9379080"/>
            <a:ext cx="29448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13C325-C1A8-47A7-8EB8-427E302C4AFA}" type="slidenum"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49840" y="9379080"/>
            <a:ext cx="29448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9BA3AB-E0D7-48E1-98B2-F0F0712B588A}" type="slidenum"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49840" y="9379080"/>
            <a:ext cx="29448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F5BB74-94C6-496B-B119-FD996FA75020}" type="slidenum"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Text Box 1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D6F8A2A-61E5-47E0-ABDB-BE4793299B37}" type="slidenum">
              <a:rPr b="1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 Box 2"/>
          <p:cNvSpPr/>
          <p:nvPr/>
        </p:nvSpPr>
        <p:spPr>
          <a:xfrm>
            <a:off x="1133640" y="741240"/>
            <a:ext cx="4530600" cy="370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5934C1-A890-4124-BDC1-74CDE05839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2560" cy="9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24000" y="1125360"/>
            <a:ext cx="849456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4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24000" y="3682800"/>
            <a:ext cx="849456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4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23B9F8-D24C-46A9-B0C5-EACD692E48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2560" cy="9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24000" y="1125360"/>
            <a:ext cx="41450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4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6760" y="1125360"/>
            <a:ext cx="41450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4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24000" y="3682800"/>
            <a:ext cx="41450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4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6760" y="3682800"/>
            <a:ext cx="41450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4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15035D-7AA2-4E4E-A0FE-0256391F43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2560" cy="9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24000" y="1125360"/>
            <a:ext cx="27349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4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6080" y="1125360"/>
            <a:ext cx="27349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4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68160" y="1125360"/>
            <a:ext cx="27349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4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24000" y="3682800"/>
            <a:ext cx="27349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4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6080" y="3682800"/>
            <a:ext cx="27349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4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68160" y="3682800"/>
            <a:ext cx="27349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4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86B5D8-F44F-4073-87DF-36992A7CAF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2560" cy="9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324000" y="1125360"/>
            <a:ext cx="8494560" cy="489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2560" cy="9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24000" y="1125360"/>
            <a:ext cx="849456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4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2560" cy="9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24000" y="1125360"/>
            <a:ext cx="41450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4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6760" y="1125360"/>
            <a:ext cx="41450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4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2560" cy="9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2560" cy="45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4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2560" cy="9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24000" y="1125360"/>
            <a:ext cx="41450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4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6760" y="1125360"/>
            <a:ext cx="41450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4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324000" y="3682800"/>
            <a:ext cx="41450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4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2560" cy="9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24000" y="1125360"/>
            <a:ext cx="8494560" cy="489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30E082-29A3-43E7-A57F-773A64E88A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2560" cy="9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24000" y="1125360"/>
            <a:ext cx="41450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4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6760" y="1125360"/>
            <a:ext cx="41450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4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6760" y="3682800"/>
            <a:ext cx="41450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4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2560" cy="9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24000" y="1125360"/>
            <a:ext cx="41450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4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6760" y="1125360"/>
            <a:ext cx="41450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4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24000" y="3682800"/>
            <a:ext cx="849456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4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2560" cy="9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24000" y="1125360"/>
            <a:ext cx="849456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4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24000" y="3682800"/>
            <a:ext cx="849456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4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2560" cy="9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24000" y="1125360"/>
            <a:ext cx="41450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4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6760" y="1125360"/>
            <a:ext cx="41450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4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24000" y="3682800"/>
            <a:ext cx="41450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4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6760" y="3682800"/>
            <a:ext cx="41450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4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2560" cy="9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4000" y="1125360"/>
            <a:ext cx="27349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4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96080" y="1125360"/>
            <a:ext cx="27349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4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68160" y="1125360"/>
            <a:ext cx="27349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4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324000" y="3682800"/>
            <a:ext cx="27349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4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96080" y="3682800"/>
            <a:ext cx="27349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4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68160" y="3682800"/>
            <a:ext cx="27349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4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2560" cy="9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24000" y="1125360"/>
            <a:ext cx="849456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4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19DCD4-3D12-436E-B6BF-5EA33123FA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2560" cy="9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24000" y="1125360"/>
            <a:ext cx="41450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4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6760" y="1125360"/>
            <a:ext cx="41450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4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9F02A1-7266-47A1-B00E-E4EFA46667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2560" cy="9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1ECDF6-F929-464E-B3F4-BE522F7712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2560" cy="45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4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A57115-88AF-4EFE-826F-8BA9FD2940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2560" cy="9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24000" y="1125360"/>
            <a:ext cx="41450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4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6760" y="1125360"/>
            <a:ext cx="41450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4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24000" y="3682800"/>
            <a:ext cx="41450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4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1D19B6-69B7-4401-BA23-DB57C7C27D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2560" cy="9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24000" y="1125360"/>
            <a:ext cx="41450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4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6760" y="1125360"/>
            <a:ext cx="41450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4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6760" y="3682800"/>
            <a:ext cx="41450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4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E7152F-9EB7-423F-AC8C-BA0F32610E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2560" cy="9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24000" y="1125360"/>
            <a:ext cx="41450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4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6760" y="1125360"/>
            <a:ext cx="41450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4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24000" y="3682800"/>
            <a:ext cx="849456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4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F8359E-8175-4087-AA1E-6A73B0C0FF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-12600" y="6210360"/>
            <a:ext cx="9156600" cy="6476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2560" cy="9795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24000" y="1125360"/>
            <a:ext cx="849456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24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24000"/>
              </a:lnSpc>
              <a:spcBef>
                <a:spcPts val="601"/>
              </a:spcBef>
              <a:buClr>
                <a:srgbClr val="0066cc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4000"/>
              </a:lnSpc>
              <a:spcBef>
                <a:spcPts val="601"/>
              </a:spcBef>
              <a:buClr>
                <a:srgbClr val="0066cc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4000"/>
              </a:lnSpc>
              <a:spcBef>
                <a:spcPts val="601"/>
              </a:spcBef>
              <a:buClr>
                <a:srgbClr val="0066cc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4000"/>
              </a:lnSpc>
              <a:spcBef>
                <a:spcPts val="601"/>
              </a:spcBef>
              <a:buClr>
                <a:srgbClr val="0066cc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24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24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406728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4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DB61C89-0AD3-4316-B617-21B812E0F025}" type="slidenum">
              <a:rPr b="0" lang="en-GB" sz="14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1" descr=""/>
          <p:cNvPicPr/>
          <p:nvPr/>
        </p:nvPicPr>
        <p:blipFill>
          <a:blip r:embed="rId2"/>
          <a:stretch/>
        </p:blipFill>
        <p:spPr>
          <a:xfrm>
            <a:off x="-12600" y="115920"/>
            <a:ext cx="9156600" cy="64764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2560" cy="9795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24000" y="1125360"/>
            <a:ext cx="849456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24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24000"/>
              </a:lnSpc>
              <a:spcBef>
                <a:spcPts val="601"/>
              </a:spcBef>
              <a:buClr>
                <a:srgbClr val="0066cc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4000"/>
              </a:lnSpc>
              <a:spcBef>
                <a:spcPts val="601"/>
              </a:spcBef>
              <a:buClr>
                <a:srgbClr val="0066cc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4000"/>
              </a:lnSpc>
              <a:spcBef>
                <a:spcPts val="601"/>
              </a:spcBef>
              <a:buClr>
                <a:srgbClr val="0066cc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4000"/>
              </a:lnSpc>
              <a:spcBef>
                <a:spcPts val="601"/>
              </a:spcBef>
              <a:buClr>
                <a:srgbClr val="0066cc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24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24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-i11.informatik.rwth-aachen.de/index.php?id=med_ws0708" TargetMode="External"/><Relationship Id="rId2" Type="http://schemas.openxmlformats.org/officeDocument/2006/relationships/hyperlink" Target="https://www.elearning.rwth-aachen.de/" TargetMode="External"/><Relationship Id="rId3" Type="http://schemas.openxmlformats.org/officeDocument/2006/relationships/hyperlink" Target="https://www.elearning.rwth-aachen.de/" TargetMode="External"/><Relationship Id="rId4" Type="http://schemas.openxmlformats.org/officeDocument/2006/relationships/hyperlink" Target="https://www.elearning.rwth-aachen.de/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1"/>
          <p:cNvSpPr/>
          <p:nvPr/>
        </p:nvSpPr>
        <p:spPr>
          <a:xfrm>
            <a:off x="0" y="1125360"/>
            <a:ext cx="9144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400" spc="-1" strike="noStrike">
                <a:solidFill>
                  <a:srgbClr val="0066cc"/>
                </a:solidFill>
                <a:latin typeface="Arial"/>
              </a:rPr>
              <a:t>Mobile Device Design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Text Box 2"/>
          <p:cNvSpPr/>
          <p:nvPr/>
        </p:nvSpPr>
        <p:spPr>
          <a:xfrm>
            <a:off x="468360" y="3573360"/>
            <a:ext cx="8280360" cy="194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r. Carsten Weise 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ipl.-Inform. Jianmin Li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mbedded Software Labora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(Chair of Computer Science 11)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WTH Aache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Rectangle 3"/>
          <p:cNvSpPr/>
          <p:nvPr/>
        </p:nvSpPr>
        <p:spPr>
          <a:xfrm>
            <a:off x="1258920" y="3141720"/>
            <a:ext cx="64008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ectangle 4"/>
          <p:cNvSpPr/>
          <p:nvPr/>
        </p:nvSpPr>
        <p:spPr>
          <a:xfrm>
            <a:off x="395280" y="6093000"/>
            <a:ext cx="8352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7.10.2007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067280" y="624528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E7030BD-36FB-4018-9A07-6DACF6841BED}" type="slidenum">
              <a:rPr b="1" lang="en-GB" sz="1400" spc="-1" strike="noStrike">
                <a:solidFill>
                  <a:srgbClr val="0066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Characteristics of Mobile Application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 Box 3"/>
          <p:cNvSpPr/>
          <p:nvPr/>
        </p:nvSpPr>
        <p:spPr>
          <a:xfrm>
            <a:off x="324000" y="1125360"/>
            <a:ext cx="8496000" cy="48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Location Awarenes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Network Connectivit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Quality of Servi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onstraint Device Capabilities(particularly storage and CPU)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Limited Power Supp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Variety of User Interfac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latform Prolife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2" name=""/>
          <p:cNvGraphicFramePr/>
          <p:nvPr/>
        </p:nvGraphicFramePr>
        <p:xfrm>
          <a:off x="1000080" y="500040"/>
          <a:ext cx="7174080" cy="5346720"/>
        </p:xfrm>
        <a:graphic>
          <a:graphicData uri="http://schemas.openxmlformats.org/drawingml/2006/table">
            <a:tbl>
              <a:tblPr/>
              <a:tblGrid>
                <a:gridCol w="1255680"/>
                <a:gridCol w="560520"/>
                <a:gridCol w="4027320"/>
                <a:gridCol w="1330560"/>
              </a:tblGrid>
              <a:tr h="523800">
                <a:tc>
                  <a:txBody>
                    <a:bodyPr lIns="82800" rIns="828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r</a:t>
                      </a: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pics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feree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331920"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ndards</a:t>
                      </a:r>
                      <a:endParaRPr b="1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</a:t>
                      </a:r>
                      <a:endParaRPr b="1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bile Communication System Standards</a:t>
                      </a:r>
                      <a:endParaRPr b="1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920"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bile OS</a:t>
                      </a:r>
                      <a:endParaRPr b="1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</a:t>
                      </a:r>
                      <a:endParaRPr b="1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bile OS: Windows Mobile and Symbian OS</a:t>
                      </a:r>
                      <a:endParaRPr b="1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560">
                <a:tc rowSpan="4"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ddleware</a:t>
                      </a:r>
                      <a:endParaRPr b="1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amp;</a:t>
                      </a:r>
                      <a:endParaRPr b="1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twork</a:t>
                      </a:r>
                      <a:endParaRPr b="1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</a:t>
                      </a:r>
                      <a:endParaRPr b="1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efetching Access in Mobile Database</a:t>
                      </a:r>
                      <a:endParaRPr b="1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124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</a:t>
                      </a:r>
                      <a:endParaRPr b="1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obile Middleware</a:t>
                      </a:r>
                      <a:endParaRPr b="1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124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</a:t>
                      </a:r>
                      <a:endParaRPr b="1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obile Security</a:t>
                      </a:r>
                      <a:endParaRPr b="1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124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</a:t>
                      </a:r>
                      <a:endParaRPr b="1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bile Agents</a:t>
                      </a:r>
                      <a:endParaRPr b="1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920">
                <a:tc rowSpan="3"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bile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plications</a:t>
                      </a:r>
                      <a:endParaRPr b="1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</a:t>
                      </a:r>
                      <a:endParaRPr b="1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bile Navigation Systems</a:t>
                      </a:r>
                      <a:endParaRPr b="1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124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</a:t>
                      </a:r>
                      <a:endParaRPr b="1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bile E-Commerce</a:t>
                      </a:r>
                      <a:endParaRPr b="1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124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</a:t>
                      </a:r>
                      <a:endParaRPr b="1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bile Virtual Enterprise</a:t>
                      </a:r>
                      <a:endParaRPr b="1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520">
                <a:tc rowSpan="4"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velopment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</a:t>
                      </a:r>
                      <a:endParaRPr b="1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ftware Architecture for Mobile Distributed Systems</a:t>
                      </a:r>
                      <a:endParaRPr b="1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124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</a:t>
                      </a:r>
                      <a:endParaRPr b="1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er  Interface Design</a:t>
                      </a:r>
                      <a:endParaRPr b="1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1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124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</a:t>
                      </a:r>
                      <a:endParaRPr b="1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2ME</a:t>
                      </a:r>
                      <a:endParaRPr b="1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7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124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.</a:t>
                      </a:r>
                      <a:endParaRPr b="1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topia</a:t>
                      </a:r>
                      <a:endParaRPr b="1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7120"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st</a:t>
                      </a:r>
                      <a:endParaRPr b="1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.</a:t>
                      </a:r>
                      <a:endParaRPr b="1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sting of Mobile Applications</a:t>
                      </a:r>
                      <a:endParaRPr b="1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1"/>
          <p:cNvSpPr/>
          <p:nvPr/>
        </p:nvSpPr>
        <p:spPr>
          <a:xfrm>
            <a:off x="4067280" y="624528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13D64F6-1E50-4AD5-B51F-33528BE5066F}" type="slidenum">
              <a:rPr b="1" lang="en-GB" sz="1400" spc="-1" strike="noStrike">
                <a:solidFill>
                  <a:srgbClr val="0066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2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324000" y="1052640"/>
            <a:ext cx="849600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66cc"/>
                </a:solidFill>
                <a:latin typeface="Arial"/>
              </a:rPr>
              <a:t>Questions 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1"/>
          <p:cNvSpPr/>
          <p:nvPr/>
        </p:nvSpPr>
        <p:spPr>
          <a:xfrm>
            <a:off x="4067280" y="624528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78C868C-1179-4683-8E33-339EF5A2271B}" type="slidenum">
              <a:rPr b="1" lang="en-GB" sz="1400" spc="-1" strike="noStrike">
                <a:solidFill>
                  <a:srgbClr val="0066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Organisational issues /1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324000" y="1125360"/>
            <a:ext cx="8496000" cy="48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Block Seminar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550"/>
              </a:spcBef>
              <a:buClr>
                <a:srgbClr val="0066cc"/>
              </a:buClr>
              <a:buFont typeface="Arial"/>
              <a:buChar char="-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  <a:ea typeface="DejaVu Sans"/>
              </a:rPr>
              <a:t>Where?  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  <a:ea typeface="DejaVu Sans"/>
              </a:rPr>
              <a:t>   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  <a:ea typeface="DejaVu Sans"/>
              </a:rPr>
              <a:t>Jugendherberge in Blankenheim (located in the almost 900 year-old Grafenburg castle directly in the Northern Eifel nature park)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  <a:ea typeface="DejaVu Sans"/>
              </a:rPr>
              <a:t>‏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550"/>
              </a:spcBef>
              <a:buClr>
                <a:srgbClr val="0066cc"/>
              </a:buClr>
              <a:buFont typeface="Arial"/>
              <a:buChar char="-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  <a:ea typeface="DejaVu Sans"/>
              </a:rPr>
              <a:t>When? 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  <a:ea typeface="DejaVu Sans"/>
              </a:rPr>
              <a:t>    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  <a:ea typeface="DejaVu Sans"/>
              </a:rPr>
              <a:t>11.02.2008 -12.02.2008 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550"/>
              </a:spcBef>
              <a:buClr>
                <a:srgbClr val="0066cc"/>
              </a:buClr>
              <a:buFont typeface="Arial"/>
              <a:buChar char="-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  <a:ea typeface="DejaVu Sans"/>
              </a:rPr>
              <a:t>Cost ?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  <a:ea typeface="DejaVu Sans"/>
              </a:rPr>
              <a:t>    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  <a:ea typeface="DejaVu Sans"/>
              </a:rPr>
              <a:t>15 Euro per person (financing problem: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  <a:ea typeface="DejaVu Sans"/>
              </a:rPr>
              <a:t>    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  <a:ea typeface="DejaVu Sans"/>
              </a:rPr>
              <a:t>please contact Prof. Kowalewski or 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  <a:ea typeface="DejaVu Sans"/>
              </a:rPr>
              <a:t>    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  <a:ea typeface="DejaVu Sans"/>
              </a:rPr>
              <a:t>Dr. Weise) 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Picture 4" descr=""/>
          <p:cNvPicPr/>
          <p:nvPr/>
        </p:nvPicPr>
        <p:blipFill>
          <a:blip r:embed="rId1"/>
          <a:stretch/>
        </p:blipFill>
        <p:spPr>
          <a:xfrm>
            <a:off x="6516720" y="2852640"/>
            <a:ext cx="1830240" cy="280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Organistional Issues /2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24000" y="1125360"/>
            <a:ext cx="849600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etting familiar with the given topic on your own (in close agreement with the tutors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ritten elaboration papers (German or English) of 10-15 pages per person using our temp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elaboration papers and the slides must be composed by yourself only. You must specify all sources and aids as well as indicate all quo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esentation (German or English) of 30 minutes 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scussion of 15 min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Organistional Issues /3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85480" y="999720"/>
            <a:ext cx="84963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Deadline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strict</a:t>
            </a:r>
            <a:r>
              <a:rPr b="0" lang="en-GB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you can send your files via email.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550"/>
              </a:spcBef>
              <a:buClr>
                <a:srgbClr val="0066cc"/>
              </a:buClr>
              <a:buFont typeface="Arial"/>
              <a:buChar char="-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2007-11-10: additional literature sourc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550"/>
              </a:spcBef>
              <a:buClr>
                <a:srgbClr val="0066cc"/>
              </a:buClr>
              <a:buFont typeface="Arial"/>
              <a:buChar char="-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2007-11-30: structure and short abstract for every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550"/>
              </a:spcBef>
              <a:buClr>
                <a:srgbClr val="0066cc"/>
              </a:buClr>
              <a:buFont typeface="Arial"/>
              <a:buChar char="-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2008-01-10: written elaboration papers and slid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ign the Declaration of Compliance after the reading of  the Ethical Guidelines for the Authoring of Academic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ebsite:</a:t>
            </a:r>
            <a:br>
              <a:rPr sz="2400"/>
            </a:br>
            <a:r>
              <a:rPr b="0" lang="en-GB" sz="24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Link to Webpage</a:t>
            </a:r>
            <a:br>
              <a:rPr sz="2400"/>
            </a:br>
            <a:r>
              <a:rPr b="0" lang="en-GB" sz="2400" spc="-1" strike="noStrike" u="sng">
                <a:solidFill>
                  <a:srgbClr val="ccccff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L2P: </a:t>
            </a:r>
            <a:r>
              <a:rPr b="0" lang="en-GB" sz="24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E-Learning</a:t>
            </a:r>
            <a:r>
              <a:rPr b="0" lang="en-GB" sz="24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 ro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Organistional Issues /4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24000" y="1125360"/>
            <a:ext cx="849600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ut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r. Carsten Wei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Font typeface="Arial"/>
              <a:buChar char="-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ploma RWTH Aac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Font typeface="Arial"/>
              <a:buChar char="-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searcher at Lehrstuhl für Informatik 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Font typeface="Arial"/>
              <a:buChar char="-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istant Professor at BRICS, Univ Aalborg (Denmark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Font typeface="Arial"/>
              <a:buChar char="-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ject Manager, Group Manager, Technical Coordinator at Ericsson Gmb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Font typeface="Arial"/>
              <a:buChar char="-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GB" sz="2000" spc="-1" strike="noStrike">
                <a:solidFill>
                  <a:srgbClr val="0066cc"/>
                </a:solidFill>
                <a:latin typeface="Arial"/>
              </a:rPr>
              <a:t>Project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: Adaptive Protocol Stacks and Model Check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Font typeface="Arial"/>
              <a:buChar char="-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Arial"/>
              </a:rPr>
              <a:t>                   </a:t>
            </a:r>
            <a:r>
              <a:rPr b="0" lang="en-GB" sz="2000" spc="-1" strike="noStrike">
                <a:solidFill>
                  <a:srgbClr val="0066cc"/>
                </a:solidFill>
                <a:latin typeface="Arial"/>
              </a:rPr>
              <a:t>Rol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: Main Responsible at Embedded Systems La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550"/>
              </a:spcBef>
              <a:buClr>
                <a:srgbClr val="0066cc"/>
              </a:buClr>
              <a:buFont typeface="Arial"/>
              <a:buChar char="-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tact: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weise(at)cs.rwth-aachen.de, +49 241 80 21 1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1187280" y="3716280"/>
            <a:ext cx="1152720" cy="3891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4" descr=""/>
          <p:cNvPicPr/>
          <p:nvPr/>
        </p:nvPicPr>
        <p:blipFill>
          <a:blip r:embed="rId2"/>
          <a:stretch/>
        </p:blipFill>
        <p:spPr>
          <a:xfrm>
            <a:off x="1187280" y="4149720"/>
            <a:ext cx="1152720" cy="38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44280"/>
            <a:ext cx="9144000" cy="9828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Organistional Issues /5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24000" y="1125360"/>
            <a:ext cx="849600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ut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pl.Inform. Jianmin L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Font typeface="Arial"/>
              <a:buChar char="-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ploma in Computer Science RWTH Aac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Font typeface="Arial"/>
              <a:buChar char="-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peciality: Embedded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Font typeface="Arial"/>
              <a:buChar char="-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h.D Student at Lehrstuhl für Informatik X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Font typeface="Arial"/>
              <a:buChar char="-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GB" sz="2000" spc="-1" strike="noStrike">
                <a:solidFill>
                  <a:srgbClr val="0066cc"/>
                </a:solidFill>
                <a:latin typeface="Arial"/>
              </a:rPr>
              <a:t>Project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: Software Architectures for Massivel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stributed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Font typeface="Arial"/>
              <a:buChar char="-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tact: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li(at)cs.rwth-aachen.de, +49 241 80 21 1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3" descr=""/>
          <p:cNvPicPr/>
          <p:nvPr/>
        </p:nvPicPr>
        <p:blipFill>
          <a:blip r:embed="rId1"/>
          <a:stretch/>
        </p:blipFill>
        <p:spPr>
          <a:xfrm>
            <a:off x="1187280" y="3141720"/>
            <a:ext cx="1152720" cy="38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What will you benefit from this seminar?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24000" y="1125360"/>
            <a:ext cx="849600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ne Night in the historical Cas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ertificate, Credit or 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dividual, scientific work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unny Discus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esentation meth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eparation for the Master/Diplom Thesi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66cc"/>
                </a:solidFill>
                <a:latin typeface="Arial"/>
              </a:rPr>
              <a:t>=&gt; Enjoy your opportunity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-151200"/>
            <a:ext cx="9144000" cy="12826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2600"/>
            </a:b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What is a Mobile Device?</a:t>
            </a:r>
            <a:br>
              <a:rPr sz="2600"/>
            </a:b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24000" y="1125360"/>
            <a:ext cx="849600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Arial"/>
              </a:rPr>
              <a:t>Mobile Device = a portable device used for communication 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Arial"/>
              </a:rPr>
              <a:t>for running applications, such as a PDA, a cell phone, or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Arial"/>
              </a:rPr>
              <a:t>smartphone (often with means of wireless communication)</a:t>
            </a:r>
            <a:r>
              <a:rPr b="0" lang="en-GB" sz="2400" spc="-1" strike="noStrike">
                <a:solidFill>
                  <a:srgbClr val="0066cc"/>
                </a:solidFill>
                <a:latin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[http://www.aventail.com/tech_support/glossary_k-r.asp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4067280" y="624528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708CC2C-DA01-43E1-BF09-552725308877}" type="slidenum">
              <a:rPr b="1" lang="en-GB" sz="1400" spc="-1" strike="noStrike">
                <a:solidFill>
                  <a:srgbClr val="0066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Eingebettete System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Rectangle 3"/>
          <p:cNvSpPr/>
          <p:nvPr/>
        </p:nvSpPr>
        <p:spPr>
          <a:xfrm>
            <a:off x="0" y="260280"/>
            <a:ext cx="9144000" cy="72072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Examples of Mobile Devices?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4" descr=""/>
          <p:cNvPicPr/>
          <p:nvPr/>
        </p:nvPicPr>
        <p:blipFill>
          <a:blip r:embed="rId1"/>
          <a:stretch/>
        </p:blipFill>
        <p:spPr>
          <a:xfrm>
            <a:off x="611280" y="1125360"/>
            <a:ext cx="1197000" cy="30243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5" descr=""/>
          <p:cNvPicPr/>
          <p:nvPr/>
        </p:nvPicPr>
        <p:blipFill>
          <a:blip r:embed="rId2"/>
          <a:stretch/>
        </p:blipFill>
        <p:spPr>
          <a:xfrm>
            <a:off x="3851280" y="3429000"/>
            <a:ext cx="2592360" cy="24447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"/>
          <p:cNvPicPr/>
          <p:nvPr/>
        </p:nvPicPr>
        <p:blipFill>
          <a:blip r:embed="rId3"/>
          <a:stretch/>
        </p:blipFill>
        <p:spPr>
          <a:xfrm>
            <a:off x="2484360" y="1557360"/>
            <a:ext cx="1081080" cy="8096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7" descr=""/>
          <p:cNvPicPr/>
          <p:nvPr/>
        </p:nvPicPr>
        <p:blipFill>
          <a:blip r:embed="rId4"/>
          <a:stretch/>
        </p:blipFill>
        <p:spPr>
          <a:xfrm>
            <a:off x="6516720" y="1197000"/>
            <a:ext cx="1830240" cy="30240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8" descr=""/>
          <p:cNvPicPr/>
          <p:nvPr/>
        </p:nvPicPr>
        <p:blipFill>
          <a:blip r:embed="rId5"/>
          <a:stretch/>
        </p:blipFill>
        <p:spPr>
          <a:xfrm>
            <a:off x="1979640" y="3213000"/>
            <a:ext cx="1641600" cy="30243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9" descr=""/>
          <p:cNvPicPr/>
          <p:nvPr/>
        </p:nvPicPr>
        <p:blipFill>
          <a:blip r:embed="rId6"/>
          <a:stretch/>
        </p:blipFill>
        <p:spPr>
          <a:xfrm>
            <a:off x="4211640" y="1268280"/>
            <a:ext cx="2160720" cy="17971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Bastian Schlich</dc:creator>
  <dc:description/>
  <dc:language>en-US</dc:language>
  <cp:lastModifiedBy>jianmin.li</cp:lastModifiedBy>
  <dcterms:modified xsi:type="dcterms:W3CDTF">2007-10-18T08:10:36Z</dcterms:modified>
  <cp:revision>30</cp:revision>
  <dc:subject/>
  <dc:title>Folie 1</dc:title>
</cp:coreProperties>
</file>